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0A9-B156-437F-9C1C-5431562A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D7C-7F53-4EBF-9D4E-344FADEA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BB7-A618-434C-836F-DAB88427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80E-DB63-4013-9695-3DBAE8D4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3E5-F956-4648-A486-968447A1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2E6-E870-4CA4-B1A3-B3B69BD1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44D-4375-482D-993C-F908D3E0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406-ADB5-4D2A-9FA9-5E7A6801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56F-A0AC-4BFD-80E8-69DDBE0F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7A3-53B7-46CE-AE44-620D34BE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349-1BE7-4282-9E44-BE1424CE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9D0-F834-46C8-9742-40B87AE4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0E6-1C93-47B0-B875-1757A48D5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4531821EAeikh_ph" descr=""/>
          <p:cNvPicPr/>
          <p:nvPr/>
        </p:nvPicPr>
        <p:blipFill>
          <a:blip r:embed="rId1"/>
          <a:stretch/>
        </p:blipFill>
        <p:spPr>
          <a:xfrm>
            <a:off x="350532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320040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ذا هو اليومُ السعيد   فلتَفرحِ الشعو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يه أتى الفادي المجيدْ ليَغفرَ الذُن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5283304ZXGjFr_ph" descr=""/>
          <p:cNvPicPr/>
          <p:nvPr/>
        </p:nvPicPr>
        <p:blipFill>
          <a:blip r:embed="rId1"/>
          <a:stretch/>
        </p:blipFill>
        <p:spPr>
          <a:xfrm>
            <a:off x="0" y="0"/>
            <a:ext cx="577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7280" y="380880"/>
            <a:ext cx="289584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هذا هو اليوم العظيم   وبهجةُ الأز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نِلنا به الوَعدَ القديم    بِرحمةِ الرَّحم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285845lPRFPG_ph" descr=""/>
          <p:cNvPicPr/>
          <p:nvPr/>
        </p:nvPicPr>
        <p:blipFill>
          <a:blip r:embed="rId1"/>
          <a:stretch/>
        </p:blipFill>
        <p:spPr>
          <a:xfrm>
            <a:off x="0" y="0"/>
            <a:ext cx="61149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380880"/>
            <a:ext cx="243864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ذا هو اليومُ الذي     وافَت بهِ الأمل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بَشَّرَت بالمُنقِذِ        في ذُروةِ الأفل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08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3600" y="380880"/>
            <a:ext cx="266688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ذا هو اليوم المُنير   بالكوكبِ المُشرِق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ه أتَتْ رُسْلُ القَدير  من آخرِ المَشرِق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7055414bIylNY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248520" y="380880"/>
            <a:ext cx="25146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Arabic Transparent"/>
              </a:rPr>
              <a:t>هذا هو اليومُ السَّني  بمولِدِ الربّ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فَسَبِّحوا المَولى الغني تسبيحةَ الحُبِّ</a:t>
            </a:r>
            <a:r>
              <a:rPr b="0" lang="ar-SA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44:26Z</dcterms:created>
  <dc:creator>SUZANNE.MD</dc:creator>
  <dc:description/>
  <dc:language>en-US</dc:language>
  <cp:lastModifiedBy>USER</cp:lastModifiedBy>
  <dcterms:modified xsi:type="dcterms:W3CDTF">2002-12-23T20:02:35Z</dcterms:modified>
  <cp:revision>2</cp:revision>
  <dc:subject/>
  <dc:title>PowerPoint Presentation</dc:title>
</cp:coreProperties>
</file>